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0C2-6283-4CC6-9733-381B75D1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6D1-3972-42DB-A7D5-CA0DA774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150-008D-40DF-9D50-EDB929C1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02C-2FE8-4E35-ADDE-7857B9EC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894-643A-4E38-B665-FB11E581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0FD-DB6D-4392-AF1E-EAE0C097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814-BCF4-4DCA-9609-EC1F0908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62D-3263-4F8C-AF9C-FD973E36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152-6C00-486D-9716-70B4A976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B2E-276B-4A36-BF5A-DBF33837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167-B632-4895-AF2F-714751F0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5B4-2188-404F-A263-3CF4426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F4CC-E4F5-4980-A446-78C90B959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цију – предмет фармације, дефиниције, професионалне могућности у фарма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– Увод у фармацеутску пра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ачину израде и прописивања на лекарски рецепт, лекови се могу поделити на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 лекови настају као резултат производње у фармацеутским компанијама и на тржишту су присутни у одређеном фармацеутском облику, јачини и паковањ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начина примене лека и очекиване брзине дејства, лекови могу постојати у више фармацеутских облика (таблете, капсуле, раствор за инјекције, масти, ит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тни или оргинални лек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originator)- резултат истраживања, открића и производње једне фармацеутске компаније и у време регистрације на тржишту је био апсолутно нов, или у погледу његовог састава, начина производње или механизма самог деј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адрже исту активну супстанцу као референтни лек, а који се производе након истека патентног права референтног лека, означавају се као „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ел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и леков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инални лек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енерички ле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и лекови имају исту активну супстанцу као оригинални лек, док помоћне супстанце, име и паковање лека могу бити другачији у односу на оригинални ле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компаније које производе „паралелне“ лекове конкуришу референтном леку у економском смислу, с обзиром на то да су цене ових лекова ниже 20-90% у односу на цену оригиналног л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регистрације генеричког ле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компаније морају приложити и документацију којом потврђују да овај ле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 оригиналном леку у смислу ефикасности, безбедности и квалит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да садржи у квалитативном и квантитативном смислу исту активну супстанцу у истом фармацеутском облику као референтни лек као и да је у погледу биолошке еквиваленције испитан одговарајућим студијама биолошке расположивости у односу на референтни ле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тински слични леков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ови који садрже исту активну супстанцу у истом квалитативном и квантитативном односу у истом фармацеутском облику при чему је доказана биорасположивост и/или биокеквиваленција са леком који се пор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ција за лекове и медицинска средства (АЛИМС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авна установа чији је оснивалац република Србија а која има надлежности у областима које се тичу лекова и медицинских средстава, а која су регулисана зако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 средство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који се употребљава у циљу постављања дијагнозе, спречавања, евалуације, лечења или умањења симптома неке болести, али и у сврху надокнаде телесних оштећења организма, испитивања, замене или приомене анатомских и морфолошких функција, у процесу зачећ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и лек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који израђује фармацеут на основу рецепта (формуле) који је сачинио лекар а за потребе одређеног 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и ле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 који је израђен у галенској лабораторији апотеке у складу са важећим фармакопејама или магистралним формулама и намењен је за издавање и продају пацијентима те апот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и 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ек чија примена се базира на искуству, а не на научним принцип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еопатски 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који је израђен од хомеопатске сировине у складу са хомеопатским поступком  израде, а на основу европских стандар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облик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лека који је одговарајући примени лека (раствор, маст, капсула, табле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е паковање ле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ковање лека које је у непосредном контакту са л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 паковање лека/медицинског сред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мбалажа у којој се налази унутрашње паковање л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– научна и стручна дисциплина чији предмет истраживања у ужем смислу обухвата све фазе припреме и производње лекова, као и поступке дистрибуције лекова становништву, али и пружање информација о свим аспектима деловања лека како стручној тако и општој популациј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е квалитета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процеса који су законски регулисани, а односе се на све фазе израде лекова – у производном процесу (на почетку и током процеса), на готовом производу/серији производа и на узорцима узетим из промета (контрола после стављања у проме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ла за стављање лека/медицинског средства у проме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МС издаје овај документ којим потврђује да су сви захтеви неопходни за стављање лека/медицинског средства испуњ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лац дозволе за стављање лека односно медицинског средства у промет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ђач лека са седиштем у РС или представник произвођача чије је представништво у РС које заступља произвођача у поступку добијања дозволе за стављање лека односно медицинског средства у пром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 особа за производњу готовог ле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агистар фармације са специјализацијом из фармацеутске технологије или пет година искуства у процесима производ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ме карактеристике лека (SmPC)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који садржи информације о леку који израђује произвођач и који је неопходан у процесу добијања дозво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Ц лекови (oтц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coun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кови који се могу издавати без рецепта јер имају малу токсичност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здравствена зашти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куп мера и активности у којима учествују фармацеути у сарадњи са осталим професионалцима из области здравства а на процесима организације, спровођења планирања и усавршавања здравствене заштите становниш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ки рецеп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лог за издавање лека који се издаје пацијенту или за 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оизвођач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 чијим спровођењем се обезбеђује квалитет који се односи на организовање, спровођење надзора и контроле квалитета лекова и медицинских средстава у фази производње. У саставу добре произвођачке праксе се налази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лабораторијска прак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акса у складиштењ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куп прописа и правила која се односе на процесе организације, спровођења надзора и чување лекова/медицинских средстава пре дање употреб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апотекарс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прописа и правила чијим спровођењем сеобезбеђује организација, спровођење надзора и чување лекова/медицинских средстава у апотекарској прак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куп норми који се односи на обезбеђење заштите учесника у клиничким испитивањима, квалитета планирања и спровођења клиничких испитивања ради добијања валидних клиничких закључа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лабораторијс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куп мера и норми чијом применом се омогућава обезбеђивање квалитета у организацији и спровођењу лабораторијских испитивања у претклиничким испитивањ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делови рецепт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ивање готових и магистралн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општ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цеп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иса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тинс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прављ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да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аљ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потека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з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тич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ат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е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eceptu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опи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п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циз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чит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томатол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ветерин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ложи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ржав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сп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лаб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ејст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- " професија одговорна за правилну и адекватну примену лекова и медицинских средстава као и за пружање услуга којима се постижу најбољи резултати у лечењу 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општ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јед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ецеп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једа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зузе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писа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његов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л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два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ади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в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л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Inscriptio 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тп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Invocatio 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зи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Ordinatio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л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д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Subsc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iptio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белеш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д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Signatura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omen medici (Потпис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лекара)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са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меном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лекара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установе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којој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рецепт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зд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Inscriptio  (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натпис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држ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ат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Јасно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веден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зи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р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дре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ти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гиста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њиж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ј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пис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иф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јагн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иф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мбулат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ок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пуњ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дици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ст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хнич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вер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Invocatio  (</a:t>
            </a:r>
            <a:r>
              <a:rPr b="1" i="1" lang="sr-RS" sz="3600" spc="-1" strike="noStrike">
                <a:solidFill>
                  <a:srgbClr val="cc3300"/>
                </a:solidFill>
                <a:latin typeface="Times New Roman"/>
              </a:rPr>
              <a:t>призивање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p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Recipe-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з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краћен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мперати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ла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фармацеуту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з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стој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овит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па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гото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њ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пра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ови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з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1426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Ordinatio 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налог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издат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од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власти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и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м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ени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лик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де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лик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псул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аблет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четн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ин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тивн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упстанц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ног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ли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м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ло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апск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оје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абле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10m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ктив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пстан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0,01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носећ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знак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ам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96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Subsc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iptio  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забелешка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примедба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ат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отека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рављ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/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дав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лик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веден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динациј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рмацеу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ције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ем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ћ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здати ле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гистра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па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кав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лик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а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стоја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веде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динациј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Signatura  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ознака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g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перати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ест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лаг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потека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у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кова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да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ер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н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писа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умљи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ит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олик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уд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ковањ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да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д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писан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м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к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gna suo nomin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његов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е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мес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. ili Sig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д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писан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астав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gna cum formul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његов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став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мес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. ili Sig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320" y="11430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писа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тинс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пису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енетерал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јекци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узи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Sign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 - Ad manum medic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ар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лаж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рмацеут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ови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пара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пути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ар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ни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ар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пису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пстве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потреб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ч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ц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 - Signa suo nomine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апи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o m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 rationem mea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чу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 usum propriu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остве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потреб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22093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отпис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лекара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са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именом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лекара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установе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којој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је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рецеп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изда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чење садржаја рецеп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лека за изда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медицинских средстава за изда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 лека или медицинског средств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лекова или медицинско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овање пацијената, пружање информација које се односе на употребу лека или медицинско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а едукација које се односе на избор и употребу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960" y="1371240"/>
            <a:ext cx="9296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цепт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авез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о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ош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ч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нтагм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тинс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Cit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Statium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т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Periculum in mor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ас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лагањ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пис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уж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отека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ма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п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в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цепт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т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гистралн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2285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л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писивањ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ординациј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супскрип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међ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тов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гистрал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вит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па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Прописивање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готових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ле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т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армацеут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ан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пе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оте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штиће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игинал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кова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Ordinati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штиће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номинатив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једн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ли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номинатив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једнине/множ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пишем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његов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количи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облик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лековитог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пишем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количин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лека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облик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лековитог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Прописивање</a:t>
            </a:r>
            <a:r>
              <a:rPr b="0" lang="sr-Latn-C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готових</a:t>
            </a:r>
            <a:r>
              <a:rPr b="0" lang="sr-Latn-C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т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ј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игинал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ковањ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шем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ко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Times New Roman"/>
              </a:rPr>
              <a:t>Subcriptio</a:t>
            </a:r>
            <a:r>
              <a:rPr b="1" lang="sr-Latn-CS" sz="3600" spc="-1" strike="noStrike">
                <a:solidFill>
                  <a:srgbClr val="0099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и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Da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Издај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!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52280" y="30492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Da scatu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am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origina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em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N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 (un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ед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игинал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Da scatu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origina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es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N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I (du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игинал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т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Scatul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кузати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Originalis</a:t>
            </a:r>
            <a:r>
              <a:rPr b="0" lang="sr-Latn-C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дев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кузати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раће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Numero-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Број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кут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римск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бројев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заград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и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бро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Само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 1,2, 3 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сто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њ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деж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шем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узатив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u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тал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е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ромељ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228600"/>
            <a:ext cx="8740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Ако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лек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акован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уб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tuba origina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чи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lagena origina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то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вч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phiola origina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в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в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ив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акузативу</a:t>
            </a:r>
            <a:r>
              <a:rPr b="1" lang="sr-Latn-CS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једнине/множ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Ако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ије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ознато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у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чему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је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ек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акован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Da oclusionem praeformatam N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 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I (un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игинал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ко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Da oclusiones praeformatas N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 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II (du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s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игинал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ко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Пример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 - 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Ацетилсалицилна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кисел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р – ацетисалсалицилна киселина (таб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cetisal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tableta od 500m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kuje - u originalnim kut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p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Acetisal tablettae 0,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99cc"/>
                </a:solidFill>
                <a:latin typeface="Times New Roman"/>
              </a:rPr>
              <a:t>Da scatulam originalem N</a:t>
            </a:r>
            <a:r>
              <a:rPr b="1" lang="sr-Latn-CS" sz="2000" spc="-1" strike="noStrike" baseline="30000">
                <a:solidFill>
                  <a:srgbClr val="0099cc"/>
                </a:solidFill>
                <a:latin typeface="Times New Roman"/>
              </a:rPr>
              <a:t>0</a:t>
            </a:r>
            <a:r>
              <a:rPr b="1" lang="sr-Latn-CS" sz="2000" spc="-1" strike="noStrike">
                <a:solidFill>
                  <a:srgbClr val="0099cc"/>
                </a:solidFill>
                <a:latin typeface="Times New Roman"/>
              </a:rPr>
              <a:t> I (un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етир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мут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н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ет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аш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-  </a:t>
            </a:r>
            <a:r>
              <a:rPr b="0" lang="en-U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ентамицин, цефтриакс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тамицин (ампуле, 80 mg; Gentamic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tamicin amp. 0,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les doses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 (tr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Ad manum medi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фтриаксон (ампуле, 1 g; Longac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acef liobočice 1,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les doses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(dece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Ad manum medi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ro injectione 10,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les ampullas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(dece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Ad manum medi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Магистралн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ковити препарати које апотекар израђује према рецепту лек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рецепту морамо написати с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стој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парат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ихов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м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кови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гистрални ле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рдинацији</a:t>
            </a:r>
            <a:r>
              <a:rPr b="1" lang="sr-Latn-C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цеп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ве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пстац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и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кови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дн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под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г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ме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главног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мена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адјуванса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кориген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еде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ме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конституенса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лед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пстан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генити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њихове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количине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арапским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бројев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марни приказ прописаних правила и стандардизованих поступака који се односе на израду , идентификацију, одлике, квалитет, начин припремања и анализу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 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ек који се ставља у промет под заштићеним именом или интернационалним незаштићеним именом  и који је одређене јачине, облика и 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33cc33"/>
                </a:solidFill>
                <a:latin typeface="Times New Roman"/>
              </a:rPr>
              <a:t>Магистрални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33cc33"/>
                </a:solidFill>
                <a:latin typeface="Times New Roman"/>
              </a:rPr>
              <a:t>лекови</a:t>
            </a:r>
            <a:r>
              <a:rPr b="0" lang="sr-Latn-C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sr-Latn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(</a:t>
            </a:r>
            <a:r>
              <a:rPr b="0" lang="sr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с</a:t>
            </a:r>
            <a:r>
              <a:rPr b="0" lang="sr-Latn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u</a:t>
            </a:r>
            <a:r>
              <a:rPr b="0" lang="sr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пскрипциј</a:t>
            </a:r>
            <a:r>
              <a:rPr b="0" lang="sr-Latn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a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00200"/>
            <a:ext cx="360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Како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л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п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справ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Облик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Ако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перентералну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употре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чему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издати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л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п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19720" y="1483920"/>
            <a:ext cx="4473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Misce fia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еш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а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sce fiat unquen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тв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sce fiat solut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мулзија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sce fiat emuls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cc"/>
                </a:solidFill>
                <a:latin typeface="Times New Roman"/>
              </a:rPr>
              <a:t>Sterilis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ерилиш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Кутиј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scatul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Боч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lagen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Боца</a:t>
            </a:r>
            <a:r>
              <a:rPr b="1" lang="sr-Latn-CS" sz="2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vit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Кес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sac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Пример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–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бизмут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субгалат</a:t>
            </a:r>
            <a:br>
              <a:rPr sz="3200"/>
            </a:b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адстригенс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спољашњу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употреб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20570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Bismuti subgallatis 10,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Talci ad 100,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Misce fiat pulv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Da ad scatul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ољ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у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олел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е могућности фармацеу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е могућности фармацеу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апотец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давање лекова на рецепт и без рецепта уз процесе информисања пацијената из различитих здравствених области (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промету лекова на мало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 са својим сарадницима у оквиру ових установа, фармацеутску здравствену делатност обавља у доменима набавке, чувања и издавања ле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сегмент рада фармацеута у оквиру апотека је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цес саветовања 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саветовања пацијената треба увек инсистирати 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 буде двосмерна, разумљива и прилагођена пацијен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е о примени лекова треба буду јасне и да садрже термине који су пријемчиви и део су свакодневне терминоло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учно-медицинска терминологија се може користити само уз детаљно објашњење пој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осебно обрати пажњу на тзв. невербалну комуникацију (положај тела, успостављање или избегавање контакта очима, покрети при разговор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тон гласа приликом саветовања прилагоди околностима, али и проблематици о којој се гов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поруке које се преносе пацијенту разумљиве и да су адекватно усвоје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постоји могућност, поред усменог саветовања, фармацеут треба да кори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рам, схему или слику како би информације биле пренете адекватн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 лекова на велик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д у веледрогерија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секундарним и терцијарним здравственим установ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набавке и чувања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дистрибуције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лекова у болничкој апоте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екова у у галенској и магистралној производњ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овање пацијената о примени лекова и медцинских сред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ране детекције и превенције нежељених реакција на лек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ране детекције и превенције интеракција између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отрошње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фармакоекономских експерти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окалних прото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љање антибиоти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домену радиофар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служби за лабораторијску дијагностику (ТДМ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фармац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фармација подразумева рад у фармацеутским компанијама и 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ктору који је оријентисан ка развоју и производњи леко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ормулацијске и формулацијске студије, претклиничко и клиничко испитивање лекова, изра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изводња ле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кторима који се односе на регулаторне аспекте, припрему документације неопходне за маркетиншку ауторизацију л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ктору који је означен као "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-acces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(област деловања која подразумева процесе формирања цена новог лека и увођење лека на листу лекова земље од интерес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епродаји ле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у "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affair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(подразумева пословни ангажман у едукацијама медицинске заједнице о деловању новог лека, креирању протокола за клиничка истраживања новог лека или примени лека зa нове индикациј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ништвима и заступништвима фармацеутских компаниј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90756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има који се баве фармаковигиланцом (Одговорно лице за фармаковигиланц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о лице за фармаковигиланцу мора имати стручне квалификације из области медицинских наука, али и из Добре праксе фармаковигиланце и регулатива и смерница које се односе на спровођење клиничких студија. Одговорно лице за фармаковигиланцу саставља периодични извештај о безбедности лека (eng. Periodic Safety Update Reports (PSURs)), који представља сумирани приказ безбедносног профила лека, који се предаје регулаторним телима у тачно одређеним временским интервалима ради периодичног праћења деловања лека у смислу безбед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 свој професионални ангажман може остварити и радом у националним регулаторним телима који процењују информације садржане у документима која се односе на производњу, домене ефикасности, квалитета и безбедности лекова и у том смислу мора поседовати знања и вештине која се односе на законе и прописе који тумаче процесе открића, производње, регистрације и евалуације нових ле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арна фарм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мену радиофармације, фармацеутска делатност обухвата процесе производње, чувања, примене и правилног уклањања радиофармацеут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поступци израде, транспорта, чувања, употребе и одлагања радиофармацеутика морају бити у складу са смерницама садржаним у документу Добра радиофармацеутска пракса (eng. Good Radiopharmacy Practice (cGRPP)), који мора бити доступан свим запосленима у овом сектору заједно са важећим протокол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са радиофармацеутицима подразумева одређене протоколе чијим усвајањем и применом се обезбеђује заштита запослених и пацијена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рмацеутс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дравствен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шти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, у литератури познат и као фармацеутска нега (eng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eutical c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лими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и одговорно учешће фармацеута у процесу лечењ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 са циљем остваривања унапред утврђених медицинских исхода који унапређују квалитет живота оболелих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фармацеута како са пацијентима тако и са другим здравственим стручњаци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еирању, примени и надзору одређених терапијских процеду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 степен међупрофесионалне сарадње којa је круцијална у концепту фармацеутске неге може допринети редукцији грешака које су повезане са применом лекова и ефикаснијем лечењу пацијен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ње фармацеутског кадра на различитим нивоим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 може учествовати као наставник у образовању различитих нивоа здравствених стручњ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 сталним едукацијама и континуираним образовањем на специјалистичким, мастер и докторским студијама може стећи звања неопходна за академску каријеру и рад у научно-образовним установа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 рада фармацеута може бити и издавачка делатност часописа који се баве фармац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gr. pharmakon, lat. remedium) се подразумева супстанца природног или синтетског порекла која има фармаколошку активност и у одговарајућем фармацеутском облику и дози, примењена на одговарајући начин може испољи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ка, дијагностичка и терапијс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ле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се могу класификовати на основу различитих критерију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Закону о лековима и медицинским средствима, лекови се могу поделити на: 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е леко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е леков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гистрални и официнални лекови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леко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еопатс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с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реклу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хуманог порекла као што су: крв и деривати крви, лекове животињског порекла (нпр. инсулин животињског порекла, серу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биљног порекла (нпр. корен јагорчеви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микробиолошког порекла и лекове хемијског порекла (природне или синтетске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могу имати и минерално порекло (глина, каоли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11:33:37Z</dcterms:created>
  <dc:creator>Author</dc:creator>
  <dc:description/>
  <dc:language>en-US</dc:language>
  <cp:lastModifiedBy>NN</cp:lastModifiedBy>
  <dcterms:modified xsi:type="dcterms:W3CDTF">2024-10-02T11:16:30Z</dcterms:modified>
  <cp:revision>71</cp:revision>
  <dc:subject/>
  <dc:title>Увод у фармацију – предмет фармације дефиниције</dc:title>
</cp:coreProperties>
</file>